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F3D-8114-4D4D-A5B6-77BCD59B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BA3-0A93-4C9A-9837-5D34CCC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DC1-C957-4AA4-B1D1-EA34E010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D15-1FF3-46B0-8E0B-2DF522ED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F50-B8B9-473A-BAC3-44578A15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261-13A2-4A6F-B064-0F33C34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AD5-0B66-4CF6-870D-3FEF8086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533B-C645-4F92-BC8E-DD629B09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A6F-4F1B-46B5-812E-0DC09CCD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8C2-CA1D-4051-B6FC-A79E64C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5BE7-EDEC-4212-B2CD-8E952B4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098-712C-4442-B405-E44D177A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9ECC-81CC-4A42-8077-C94C5A0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BCBD-9C36-46DF-B2FC-18783EC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2FB-5CE1-4BC2-8BCB-0CFC85AD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E8F-C9A9-4185-991C-A4021BF6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4CCB-76AB-4248-B566-FFD16773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42F-F725-4CF1-8AC9-603DA9FC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B42-F614-4945-B22A-CF1D5C3A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C4C-7FA8-4722-95D0-56B49E2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492-B709-4562-8E3D-E62D4FBA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51F-C6B1-460C-9457-931C38F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C1E-9970-458A-90F3-F983FD8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D8D-BDCA-4C12-A0A5-FEC4EE1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F94-F67F-4829-9768-138AAA5D1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A1F-2CA3-4254-8BEF-E715D5AA1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25280" y="3168720"/>
            <a:ext cx="679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underline words, letters, sign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numbers when we refer to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5400" y="3168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22760" y="316872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nry is different_____the rest of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5400" y="3168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13760" y="316872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female pet is altered, she is _____ , not sp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7560" y="3168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26360" y="3168720"/>
            <a:ext cx="71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ged is used in past tense when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87840" y="31687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ife is ta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23120" y="3168720"/>
            <a:ext cx="61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s (real, really) frighten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e st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8280" y="316872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15560" y="31687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 or Ir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24200" y="316872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prescription, not per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27800" y="3168720"/>
            <a:ext cx="70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 means” before” and script mea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writ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23480" y="3168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(freshman, freshmen) class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y sm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9720" y="31687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1960" y="316872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ilet mig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 slice of beef cut from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rrow end of the tenderl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198108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deja 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24560" y="3168720"/>
            <a:ext cx="62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overly famili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7920" y="3168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l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5400" y="3168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1520" y="31687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3400" y="3168720"/>
            <a:ext cx="46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ish I (was, were) r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78480" y="31687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6920" y="3168720"/>
            <a:ext cx="67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capitalized – uncle Ted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81720" y="316872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cle 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06200" y="316872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ing of 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756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d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1240" y="316872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ooths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88200" y="316872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oph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06920" y="3168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 of hand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9000" y="31687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fu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9440" y="316872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an: verb or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18800" y="31687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stationary me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0872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fixe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09440" y="316872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22400" y="3168720"/>
            <a:ext cx="604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 impression” or decepti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ranc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04760" y="316872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detas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72720" y="316872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 E T A S S E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06560" y="31687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restaur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46800" y="3168720"/>
            <a:ext cx="42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 E S T A U R A N 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3840" y="3168720"/>
            <a:ext cx="63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the negro, potatoe, and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19520" y="3168720"/>
            <a:ext cx="57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groes, Potatoes, and Hero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6120" y="3168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25280" y="3168720"/>
            <a:ext cx="65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n (paid, payed) his debt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5040" y="3168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24560" y="316872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6200" y="31687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has a rat in 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26720" y="3168720"/>
            <a:ext cx="64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nderline/ital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18800" y="316872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r works such as books, play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s, ec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63</cp:lastModifiedBy>
  <dcterms:modified xsi:type="dcterms:W3CDTF">2010-05-18T19:17:59Z</dcterms:modified>
  <cp:revision>19</cp:revision>
  <dc:subject/>
  <dc:title>Jeopardy</dc:title>
</cp:coreProperties>
</file>